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782B-879A-46E9-A0FD-34E19D71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D140-6E4B-401B-9B2B-5BB2976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68F5-8693-4B8E-8262-5CF66E26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C3F6-A217-412B-B992-A1D11E62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12B-29C2-4D77-9B34-5AFC246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9F7-A3BF-4878-B159-D533B017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A7A3-76B7-4062-9A59-C071859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AAD9-74A9-4418-A0E2-E39A60E8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231-AF25-4C36-AA52-37BB210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D8D-3AAA-4D22-B8F5-D4698620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788-0F75-4718-97BC-D2CDAF2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B0A0-242E-444F-8A07-05D86A0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36A6-A4B0-4F58-AC2B-EA8DDD3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9A8A-8B1A-45D0-A010-584E323D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B79-FBA7-425E-836E-62A0B31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5C2-770A-4903-B7C2-8A245DAF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E71C-3A5A-4373-BBE9-42A2A236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2DD2-D808-46A9-8AEF-A7FA30DF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DA93-B05A-4664-9F05-E7D0AF9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1CC1-0837-4743-8B19-018832D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5AC4-DB43-4A44-8DBC-F0880D1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5C07-D7DE-4DF3-ABFD-6044FCC0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7D0E-5F15-4F95-8543-3751516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4FAC-533E-4F75-91A9-88429E9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AFDA-9B1B-4B78-8B5C-CE45D97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4E77-BFB5-4171-AB04-A6499DC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68E5-2319-4659-8FD3-30ED50F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621F-395E-490B-97F8-F2293B1D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B6D1-3532-4E14-A7AE-58729D2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FCF7-83EB-4A8E-BF22-992AD27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02A3-3DE6-4094-AC71-CC1BF422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8545-FCD9-424C-89E9-0ED2BF7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FEF1-DC81-44BC-823B-00E402F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EDEE-8B93-42C0-BC47-91CD0D99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5731-5F4E-420F-B10C-F202CAA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5F80-703D-4839-9BA9-526551A7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C2EC-7C15-44AC-9794-4678C299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8005-6310-486B-BEA1-D8010FD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6F8A-9936-427E-B499-58015AE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CC7D-3CAB-499F-B6CE-BD0CE423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BDA4-5AE5-4C53-A9FB-E0AFEDA6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CCC4-14F9-491C-887B-F81007B5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7A25-72AF-4AF9-8BD1-F5114138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2784-46D4-4125-8EBC-A67B3A72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DDCC-E98D-4371-B2B5-EC46DC3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8766-02CD-47C1-A432-D3DA2041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6AEB-EB55-4A94-9305-7A96CE2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701F-9B26-4AB1-860C-EDBD3B6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88F0-B738-4A18-AE29-76B6550C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4C1E-4C96-4BD5-BAD1-19D464A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0D5D-2BA1-499C-8C81-850A2EA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E30F-9F47-4282-8A7C-BA63F89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E877-96FD-4F3B-BE3F-20A06D9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D135-6844-4F31-91A9-8C1498C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8598-AB39-4EE2-823C-4A7164ED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DE48-7B6F-4504-B7BE-2A877CB5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356D-BE0C-4640-9DF6-D8583A96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71BD9-64F1-4D74-ABDD-F7F46295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33896-37AB-404D-AE83-DE4816C1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FF14-B2DB-46B2-AAA3-3340BB7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DC4D-CB52-4F16-A912-FDF280A5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6E0D6-E7E7-43C6-9651-01EDDC6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55640" y="420840"/>
            <a:ext cx="856944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C177-AC6C-4006-BD4F-2BCCB7B6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D5C77-6C17-48B6-8830-A2C7AF6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F0C8-33BA-4803-B9A3-92745D40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D82C-1149-467A-BF4E-F511059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5D2D-0B8C-4A8C-B090-3B7CC27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C56F-919D-4E55-ACCC-F35451F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F6850-0C14-44F3-A158-D8E9898D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912E6-3498-4DF3-9DD9-7EFAFA79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13B5-D553-4674-AAE3-AF1C3FC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2125-479D-4ECB-ABED-C48A244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97640" cy="7559280"/>
            <a:chOff x="0" y="0"/>
            <a:chExt cx="10097640" cy="7559280"/>
          </a:xfrm>
        </p:grpSpPr>
        <p:sp>
          <p:nvSpPr>
            <p:cNvPr id="1" name=""/>
            <p:cNvSpPr/>
            <p:nvPr/>
          </p:nvSpPr>
          <p:spPr>
            <a:xfrm>
              <a:off x="9156240" y="1440"/>
              <a:ext cx="923760" cy="7557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47880" y="0"/>
              <a:ext cx="335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24000" y="0"/>
              <a:ext cx="756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947760" y="0"/>
              <a:ext cx="420120" cy="755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52240" y="0"/>
              <a:ext cx="671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9880" y="0"/>
              <a:ext cx="100800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04000" y="0"/>
              <a:ext cx="335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04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78000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72240" y="0"/>
              <a:ext cx="923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83760" y="0"/>
              <a:ext cx="25200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775120" y="0"/>
              <a:ext cx="44064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48240" y="0"/>
              <a:ext cx="252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64360" y="0"/>
              <a:ext cx="1175760" cy="755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132240" y="0"/>
              <a:ext cx="1091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720120" y="0"/>
              <a:ext cx="9241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4424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90080" y="0"/>
              <a:ext cx="26568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40360" y="0"/>
              <a:ext cx="587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780960"/>
              <a:ext cx="10080360" cy="778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766560"/>
              <a:ext cx="10097640" cy="3045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0EF2A4E-7D46-486B-AEED-74E1991856E1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10097640" cy="7559280"/>
            <a:chOff x="0" y="0"/>
            <a:chExt cx="10097640" cy="7559280"/>
          </a:xfrm>
        </p:grpSpPr>
        <p:sp>
          <p:nvSpPr>
            <p:cNvPr id="64" name=""/>
            <p:cNvSpPr/>
            <p:nvPr/>
          </p:nvSpPr>
          <p:spPr>
            <a:xfrm>
              <a:off x="9156240" y="1440"/>
              <a:ext cx="923760" cy="7557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7880" y="0"/>
              <a:ext cx="335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24000" y="0"/>
              <a:ext cx="756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7760" y="0"/>
              <a:ext cx="420120" cy="755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52240" y="0"/>
              <a:ext cx="671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9880" y="0"/>
              <a:ext cx="100800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4000" y="0"/>
              <a:ext cx="335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504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8000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2240" y="0"/>
              <a:ext cx="923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3760" y="0"/>
              <a:ext cx="25200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75120" y="0"/>
              <a:ext cx="440640" cy="75592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48240" y="0"/>
              <a:ext cx="25200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64360" y="0"/>
              <a:ext cx="1175760" cy="755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32240" y="0"/>
              <a:ext cx="10915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20120" y="0"/>
              <a:ext cx="92412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44240" y="0"/>
              <a:ext cx="41976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0080" y="0"/>
              <a:ext cx="265680" cy="7559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0360" y="0"/>
              <a:ext cx="587880" cy="75592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780960"/>
              <a:ext cx="10080360" cy="778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766560"/>
              <a:ext cx="10097640" cy="3045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763280"/>
            <a:ext cx="856944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DFF287B-2BA5-4BAE-B901-594E633522C0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08000" algn="ctr"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511280" algn="ctr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16000" algn="ctr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AE2C-EBEB-4478-BB24-4581C3B0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916320" y="-23760"/>
            <a:ext cx="3270240" cy="3633840"/>
            <a:chOff x="6916320" y="-23760"/>
            <a:chExt cx="3270240" cy="3633840"/>
          </a:xfrm>
        </p:grpSpPr>
        <p:grpSp>
          <p:nvGrpSpPr>
            <p:cNvPr id="168" name="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169" name="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172" name="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175" name="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916320" y="-23760"/>
              <a:ext cx="3270240" cy="3633840"/>
              <a:chOff x="6916320" y="-23760"/>
              <a:chExt cx="3270240" cy="36338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20" bIns="2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45240" y="1005120"/>
                <a:ext cx="2402280" cy="260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8479080" y="257760"/>
                <a:ext cx="1707480" cy="231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666560" y="837000"/>
                <a:ext cx="104796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168680" y="906120"/>
                <a:ext cx="1616760" cy="260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068240" y="660960"/>
                <a:ext cx="1685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505720" y="849600"/>
                <a:ext cx="266040" cy="260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76920" y="844200"/>
                <a:ext cx="704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470080" y="668160"/>
                <a:ext cx="100008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991920" y="460080"/>
                <a:ext cx="168480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135920" y="177120"/>
                <a:ext cx="1416600" cy="260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397720" y="724320"/>
                <a:ext cx="597600" cy="26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3821583-EE17-4DB2-A3D9-E08556553BCE}" type="slidenum"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216160" y="270000"/>
            <a:ext cx="7859160" cy="8733960"/>
            <a:chOff x="2216160" y="270000"/>
            <a:chExt cx="7859160" cy="8733960"/>
          </a:xfrm>
        </p:grpSpPr>
        <p:grpSp>
          <p:nvGrpSpPr>
            <p:cNvPr id="344" name="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345" name="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216160" y="270000"/>
              <a:ext cx="7859160" cy="8494920"/>
              <a:chOff x="2216160" y="270000"/>
              <a:chExt cx="7859160" cy="84949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397240" y="752040"/>
                <a:ext cx="7678080" cy="8012880"/>
                <a:chOff x="2397240" y="752040"/>
                <a:chExt cx="7678080" cy="801288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397240" y="752040"/>
                  <a:ext cx="7678080" cy="8012880"/>
                  <a:chOff x="2397240" y="752040"/>
                  <a:chExt cx="7678080" cy="80128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971320" y="945360"/>
                    <a:ext cx="4104000" cy="55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823840" y="2502720"/>
                    <a:ext cx="38847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948280" y="1931760"/>
                    <a:ext cx="24051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396880" y="1431360"/>
                    <a:ext cx="40503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743200" y="752040"/>
                    <a:ext cx="34074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774040" y="2067480"/>
                    <a:ext cx="14400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582280" y="785160"/>
              <a:ext cx="7067520" cy="8218800"/>
              <a:chOff x="2582280" y="785160"/>
              <a:chExt cx="7067520" cy="821880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728880" y="2741040"/>
                <a:ext cx="57697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017960" y="2338560"/>
                <a:ext cx="25243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582280" y="1914840"/>
                <a:ext cx="4050000" cy="626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33600" y="2370240"/>
                <a:ext cx="6418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65560" y="2355120"/>
                <a:ext cx="16930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3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4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5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3A1C214-DEED-4CF9-83B2-D706DE4B034E}" type="slidenum">
              <a:rPr b="0" lang="en-US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6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17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18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01A08B0-0121-425F-9A27-6EB6C56C001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1680" y="274320"/>
            <a:ext cx="8874360" cy="121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 Under which conditions wi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express (transcribe and translate) lots of beta-galactosid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0640" y="1646280"/>
            <a:ext cx="8569440" cy="281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lucose as the only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lucose and 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lactose as the only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edium with ga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rcRect l="0" t="24493" r="18636" b="0"/>
          <a:stretch/>
        </p:blipFill>
        <p:spPr>
          <a:xfrm>
            <a:off x="1839960" y="4998960"/>
            <a:ext cx="7935840" cy="25606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183360" y="3170160"/>
            <a:ext cx="3686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36600" y="167760"/>
            <a:ext cx="9407520" cy="86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:  What causes induction of the lac oper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2920" y="1036800"/>
            <a:ext cx="8569080" cy="389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ressor binds to the operator, regardless of 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P binds to the promoter, regardless of Re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pressor binds to in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oth A) and B)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AP binds to the promoter and Repressor is not bound to the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rcRect l="0" t="19992" r="18865" b="0"/>
          <a:stretch/>
        </p:blipFill>
        <p:spPr>
          <a:xfrm>
            <a:off x="1611360" y="4846680"/>
            <a:ext cx="7913520" cy="27129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4572000" y="4846680"/>
            <a:ext cx="3686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: In wild-typ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ells in medium with glucose, and no lactos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96960" y="1417320"/>
            <a:ext cx="8569440" cy="2895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P binds to promo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pressor binds to operat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oth CAP and Repressor bind to promoter and operator, respective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74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ither bind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rcRect l="0" t="0" r="20980" b="0"/>
          <a:stretch/>
        </p:blipFill>
        <p:spPr>
          <a:xfrm>
            <a:off x="2373480" y="4168800"/>
            <a:ext cx="7707240" cy="33908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6183360" y="3398760"/>
            <a:ext cx="3686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36600" y="252000"/>
            <a:ext cx="9407520" cy="108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 If a mutation eliminates binding of inducer to the repressor, but the repressor still binds to D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72920" y="1341000"/>
            <a:ext cx="8569080" cy="434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always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never be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ever glucose is absent, regardless of the presence or absence of lact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 both glucose and lactose ar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 operon will be expressed when glucose is present and lactose is ab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RS Question Icon" descr="PRS Question Icon"/>
          <p:cNvPicPr/>
          <p:nvPr/>
        </p:nvPicPr>
        <p:blipFill>
          <a:blip r:embed="rId1"/>
          <a:stretch/>
        </p:blipFill>
        <p:spPr>
          <a:xfrm>
            <a:off x="69840" y="68594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5802480" y="5303880"/>
            <a:ext cx="3686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420840"/>
            <a:ext cx="8569440" cy="839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 operon demon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55640" y="167904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eed volunteers f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NA polymer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pressor prot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P prot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96960" y="579240"/>
            <a:ext cx="85694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7300" spc="-1" strike="noStrike">
                <a:solidFill>
                  <a:srgbClr val="ffffcc"/>
                </a:solidFill>
                <a:latin typeface="Tahoma"/>
              </a:rPr>
              <a:t>The Lac Operetta</a:t>
            </a:r>
            <a:endParaRPr b="0" lang="en-US" sz="7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82400" y="2637000"/>
            <a:ext cx="7186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musical? traves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pologie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y Pyth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Wag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Gershw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Frideric Han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hty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Cast of culprits, their tunes &amp; props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72920" y="217944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RNA polymerase (Underdog song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Repressor (Lumberjack song, Summertim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AP protein (Mighty Mouse song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horus (Ride of the Valkyries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Lactose (Milky Way bars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Glucose (Starbursts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yclic AMP (Cinnamon Fire Jolly Ranchers)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9155160" y="667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92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1 – In the gluc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bound to the operator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'm a repressor and I'm Ok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“operate” on DN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keep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I get my Milky Way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S)He keeps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(s)he gets his (her) Milky Way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2920" y="344160"/>
            <a:ext cx="907092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1 – Still in the gluc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nter RNA polymerase (searching along DNA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is my promoter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can it be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I start making RN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must on my promoter b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she starts making RN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he must on her promoter be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blocks RNA polymerase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 keep RNA polymerase awa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I get my Milky Way!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16080" y="2103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879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39760" y="307800"/>
            <a:ext cx="952488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2 – In the land of milk and honey (both glucose and lactos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sor (grabbing Milky Way bars, floats away from the DNA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lky time, and the lactose is easy.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've got my lactose, don't care about DNA no mo'....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NA polymerase (resumes looking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is my promoter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h, where oh where can it be....?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39400" y="344160"/>
            <a:ext cx="933444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ene 3 – Impending Starv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no glucos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000" y="1951200"/>
            <a:ext cx="90709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horus (throws cinnamon fire candy (cAMP)):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more glucose, we are starving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nd alarms, or else we die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P (catches a couple of red hots, binds to promoter, waves to RNA polymerase)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ve no fear, I'm on my wa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lac promoter, is right here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ymerase, can get in gear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ymerize lac RNA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16080" y="24084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065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5640" y="339480"/>
            <a:ext cx="8570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Scene 3 – triumphant transcription; starvation averted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1680" y="2484000"/>
            <a:ext cx="937260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RNA polymerase transcribes lac RNA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Chorus: 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NA polymerase transcribeth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, hallelujah, hallelujah, 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ibosomes translate galactosidas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, hallelujah, hallelujah, 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d we shall live for ever and ever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d we shall live for ever and ever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llelujah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9231480" y="667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25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ng Choi</dc:creator>
  <dc:description/>
  <dc:language>en-US</dc:language>
  <cp:lastModifiedBy>Fujitsu</cp:lastModifiedBy>
  <dcterms:modified xsi:type="dcterms:W3CDTF">2010-03-01T22:04:09Z</dcterms:modified>
  <cp:revision>12</cp:revision>
  <dc:subject/>
  <dc:title>The Lac Operetta</dc:title>
</cp:coreProperties>
</file>